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F75-86CA-4484-9687-125D5347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347-8D8D-4BAB-9D4B-5C390E9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358-B5F0-4EBD-9421-211D6879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653-A5B4-4629-AF55-C018B01A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A71-F78F-49EC-AF6F-4974374C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F64-DA81-43E7-A8A1-AADE4AEE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5B4-F2C0-4F7A-9284-056781B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6A3-E468-4B17-BE97-E9698EA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2A6-C0B4-432C-BB18-999BCB8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F20-E864-4F0C-BB5F-8924290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ECE-CA47-4DF5-8FE1-49D8E1E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407-C20B-4FA9-96CD-F7B261C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FEE-3E1B-41C2-BA16-4A760210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ela@terra.com.br" TargetMode="External"/><Relationship Id="rId2" Type="http://schemas.openxmlformats.org/officeDocument/2006/relationships/hyperlink" Target="mailto:rela@terra.com.br" TargetMode="External"/><Relationship Id="rId3" Type="http://schemas.openxmlformats.org/officeDocument/2006/relationships/hyperlink" Target="mailto:ednaldo.mesquita@mma.gov.br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4343400"/>
            <a:ext cx="9144000" cy="14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Painel: Atividades do CNRH e suas Câmaras Técn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XVI Simpósio Brasileiro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22/11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Decio Michellis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1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5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4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Define os valores e os critérios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aplicáveis ao usuários do set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ineração de arei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no leito dos 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8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 - Estabelec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ritérios gerais para a 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os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9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6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e dá outras provid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50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18 de julho de 2005  - Aprovar os mecanismos e critérios para a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regularização de débit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consolidados referentes à cobrança pelo uso de recursos hídricos de domínio da União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outubro de 2004 - Manifes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iscordâ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om relação às críticas feitas no Relató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"O Estado Real das Águas no Brasil 2003-2004"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(Sinopse) ao modelo de gestão de recursos hídricos preconizado na Lei n° 9.433, de 199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2 de julho de 2004 -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omenda açõ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ecorrentes das determinações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NRH n°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1° de dezembro de 200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6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Solici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ovidências relativas ao não contingenci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os recursos oriundos da cobrança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junho de 2003 - Recomenda a ado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didas par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o tratamento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eit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rovenient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MINUTA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Manual de Apoio aos Parlamentares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sobre os Programas do  Ministério do Meio Ambiente na Gestã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Desenvolvimento de Programa Institucional 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Gestão Estratégica CTCOB 2005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Monitoramento do Contingenciamento de Recursos 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Criação do GTAAC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Sistema de Gestão de Recursos Hídricos  do Ceará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- Documento de Referência - SRH/CE" - Agosto/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Clipping (matérias divulgadas sobre "cobrança"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pós a aprovação das Resoluções CNRH nºs 48 e 49, em 21/03/05)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O 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 de Lei nº. 1616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apensados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o PL nº. 1616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em Tramitação no Congresso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Nacional Relacionados à Gestão de Recursos Hídricos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GTAAC - "Relatório de Atividades 2005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Relatórios Técn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evoluçã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do processo da implementação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pelo uso de recursos hídricos no Brasil em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2 e 2003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Nota Síntese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/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elatório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Estudos Específ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e a Compensação Financeira no Setor Hidrelétrico.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elo Horizonte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MG - agost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ifusão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Workshop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a Aplicação de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2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artilh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cobrança (Terminolo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3 Termo de Referência para elaboração do relató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arc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4 Nota técnica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tegração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os Instrumentos de 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5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 Acompanhamento da 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6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 das hidrelétrica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compensação financeira, versus cobrança pelo us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7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ocedimentos Fluxos Critéri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e Metodologia de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8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Fund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9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nvergê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Cobrança pelos Recursos Hídricos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0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dequa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forma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1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companh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implementação da cobrança na Baci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2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GTAAC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 (Grupo Tricamerata: CTCOB, CTIL e CTPNRH, com a coordenação dos trabalhos sob a coordenação da CTCOB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3 Cobrança Pelo Uso Dos Recursos Hídricos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4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todologia e Critéri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para Formulação da Cobranç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Desafios 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Oportun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OBRANÇ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é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Estabeleciment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onitoramento das aplicaçõ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Recomenda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L ou PEC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vis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solucionar os problem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referentes ao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trâmites administrativo-financeir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oriund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dentificação das baci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realmente necessitam de cobrança a partir de sua viabilidade de implantaçã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dentificar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rmas mais simples de cobrança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poderão ser aperfeiçoadas no futu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lder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explicativo apresentando 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issão e os objetiv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a CTCOB e estabelecimento de um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ção política integrada a ser coordenada pelo CNRH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Pacto Federativo e a Cobrança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898560"/>
            <a:ext cx="6172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Verdana"/>
              </a:rPr>
              <a:t>Desafios &amp; 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505320"/>
            <a:ext cx="7772400" cy="32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esidente: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Decio Michellis Jun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decio.michellis@gruporede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: (11) 3066 1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lator: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Ednaldo Mesquita Carv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ednaldo.mesquita@mm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s: (61) 4009 1809 ou 4009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733920" cy="156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O art. 19 da Lei no 9.433, de 8 de janeiro de 1997, institui a cobrança pelo uso da água com o objetivo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reconhecê-la como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bem dotado de valor econômic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dar ao usuário uma indicação de seu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al valor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entivar a racionaliz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o seu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obter recursos financeiro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o financiamento dos programas e intervenções, contemplados nos 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914400"/>
            <a:ext cx="5029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O que é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 art. 20 estabelece que serão cobrados os usos sujeitos a outorga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derivação ou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captaçã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de águ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extração de água de aqüífero subterrâneo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lançament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m corpo de água de esgotos e resíduos líquidos, com o fim de sua diluição, transporte ou disposição final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aproveitamento dos potenciais hidrelétric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utros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usos que alterem o regime, a quantidade ou a qualidade da água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xistente em um corpo de águ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914400"/>
            <a:ext cx="59436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Quem pa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faz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TCO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ritérios gerai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nalisar e sugerir, no âmbito das competências do CNRH,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complementare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implementação e aplicação d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e ações conjuntas para a integr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 otimização de procedimentos entre as instituições responsáveis pel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nalisar proposta de cobrança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apresentada pelo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omitê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e Bacias Hidrográfi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valiar as experiência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m cursos, ou em implementações, dos processos de cobrança pelo uso dos recursos hídricos, considerando procedimentos adotados e resultados obt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 competências constantes do Regimento Interno do CNRH e outras que vierem a ser delegadas pelo seu Ple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Balanço 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Ativ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novembro de 2002  - Define os valores e os critérios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1 de dezembro de 2003 - Estabelece a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ara aplicação dos recursos oriundos da cobrança pelo uso de recursos hídricos, para 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xercício de 2004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8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Delegar competência à Associação Pró-Gestão das Águas da Bacia Hidrográfica do Rio Paraíba do Sul para o exercício de funções e atividades inerentes à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gência de Águ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43:45Z</dcterms:created>
  <dc:creator>INVESTCO</dc:creator>
  <dc:description/>
  <dc:language>en-US</dc:language>
  <cp:lastModifiedBy>VPE</cp:lastModifiedBy>
  <cp:lastPrinted>2002-06-27T19:42:28Z</cp:lastPrinted>
  <dcterms:modified xsi:type="dcterms:W3CDTF">2005-11-20T22:02:27Z</dcterms:modified>
  <cp:revision>164</cp:revision>
  <dc:subject/>
  <dc:title>Apresentação do PowerPoint</dc:title>
</cp:coreProperties>
</file>